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1B57-789C-49AA-AD0D-1A8566A50C3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5F6F-78D8-4114-87D8-AEBC0D116D0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650F8-F575-4A58-95A6-327DF2431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71AF-CA84-42EC-87DE-BECE1A05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D55E9-3A52-4432-9E65-53F8A68A2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C7E4F-D402-43D2-B415-97264AFBA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51510-B85B-481C-B769-BA00D05AE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6ACF4-1285-4CC0-9122-23556A96C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47E6B-5706-49A1-9107-3B8C591AE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B2ABC-B59A-4A89-908C-B40D5C4B6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6BA6F-6494-409D-9BDB-30D34714F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61D05-6AE2-4F91-8A97-3310EEDEB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42536-D23F-4E7A-B478-2076FA9A2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D6F98-550E-4175-9F21-6701F2BC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28380-924F-4443-9C67-A5EA4496F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F20C9-9DBF-4D6F-83B3-1EF81EAB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7AA5A-6C91-49B7-90B1-29BF81B71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A71F8-7C5E-4881-92FA-3709C3B44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70321-69B8-4910-8712-46C66730B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DA483-45DC-4833-909A-D93DFFFAE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1C6A-3FAA-489A-94EA-C5C6D921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352DB-3495-49A7-A1BC-E0EED16E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401A0-EB91-41D9-8B96-5B45C0792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21BE-C0D6-49E5-A1D6-E096942C6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78EB-A85A-4EB9-AEE3-16C880E9F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CF9B-7177-4193-9B66-515FC47E7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E5C0-E17A-4218-AA4E-83493CECA32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62E8-657B-4F02-AC86-3530528BA700}"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te.ca/bitedaily/wp-content/uploads/2010/09/gattaca.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gat"/>
          <p:cNvPicPr/>
          <p:nvPr/>
        </p:nvPicPr>
        <p:blipFill>
          <a:blip r:embed="rId1"/>
          <a:stretch/>
        </p:blipFill>
        <p:spPr>
          <a:xfrm>
            <a:off x="826920" y="692280"/>
            <a:ext cx="7345440" cy="2319120"/>
          </a:xfrm>
          <a:prstGeom prst="rect">
            <a:avLst/>
          </a:prstGeom>
          <a:ln w="0">
            <a:noFill/>
          </a:ln>
        </p:spPr>
      </p:pic>
      <p:sp>
        <p:nvSpPr>
          <p:cNvPr id="106" name="TextBox 5"/>
          <p:cNvSpPr/>
          <p:nvPr/>
        </p:nvSpPr>
        <p:spPr>
          <a:xfrm>
            <a:off x="3132000" y="5084640"/>
            <a:ext cx="5688000" cy="241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ffffff"/>
                </a:solidFill>
                <a:latin typeface="Abadi MT Condensed Light"/>
              </a:rPr>
              <a:t>an </a:t>
            </a:r>
            <a:r>
              <a:rPr b="0" lang="en-AU" sz="7200" spc="-1" strike="noStrike">
                <a:solidFill>
                  <a:srgbClr val="ffffff"/>
                </a:solidFill>
                <a:latin typeface="Abadi MT Condensed Light"/>
              </a:rPr>
              <a:t>introduction</a:t>
            </a:r>
            <a:endParaRPr b="0" lang="en-US" sz="7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755640" y="3724200"/>
            <a:ext cx="802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is a perfect world, but only perfect for those who are genetically gift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world created by Niccol is really a dystopian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In what way is Gattaca a dystop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other examples of dystopian fiction can you think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2" descr="http://i77.photobucket.com/albums/j60/bluinkalchemist/gattaca2-1.jpg"/>
          <p:cNvPicPr/>
          <p:nvPr/>
        </p:nvPicPr>
        <p:blipFill>
          <a:blip r:embed="rId1"/>
          <a:stretch/>
        </p:blipFill>
        <p:spPr>
          <a:xfrm>
            <a:off x="5137200" y="404640"/>
            <a:ext cx="3770280" cy="2519640"/>
          </a:xfrm>
          <a:prstGeom prst="rect">
            <a:avLst/>
          </a:prstGeom>
          <a:ln w="0">
            <a:noFill/>
          </a:ln>
        </p:spPr>
      </p:pic>
      <p:sp>
        <p:nvSpPr>
          <p:cNvPr id="131" name="Rectangle 5"/>
          <p:cNvSpPr/>
          <p:nvPr/>
        </p:nvSpPr>
        <p:spPr>
          <a:xfrm>
            <a:off x="611280" y="404640"/>
            <a:ext cx="403200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Kahootz Monster"/>
              </a:rPr>
              <a:t>“</a:t>
            </a:r>
            <a:r>
              <a:rPr b="0" lang="en-AU" sz="2800" spc="-1" strike="noStrike">
                <a:solidFill>
                  <a:srgbClr val="ffffff"/>
                </a:solidFill>
                <a:latin typeface="Kahootz Monster"/>
              </a:rPr>
              <a:t>nothing that would prohibit someone working in the field of law enforcement, for example …but now there are ‘enough of the right kind of people.”</a:t>
            </a:r>
            <a:endParaRPr b="0" lang="en-US" sz="28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3"/>
          <p:cNvSpPr/>
          <p:nvPr/>
        </p:nvSpPr>
        <p:spPr>
          <a:xfrm>
            <a:off x="468360" y="3429000"/>
            <a:ext cx="8207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proving that genes aren’t the sole determinate of people’s lives, Vincent inspired and changed oth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ugene’s heroic climb up the helix stairway was inspired by the courage and tenacity shown by Vincent in his determination to achieve his go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r Lamar’s comment at the film’s end shows how Vincent’s battle has inspired Lamar’s son to defy his genetic expect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ven Irene loses some of her passivity and begins to hope</a:t>
            </a:r>
            <a:endParaRPr b="0" lang="en-US" sz="1800" spc="-1" strike="noStrike">
              <a:solidFill>
                <a:srgbClr val="ffffff"/>
              </a:solidFill>
              <a:latin typeface="Arial"/>
            </a:endParaRPr>
          </a:p>
        </p:txBody>
      </p:sp>
      <p:pic>
        <p:nvPicPr>
          <p:cNvPr id="133" name="Picture 2" descr="http://www.themovietrust.com/wp-content/uploads/2010/06/ethan-hawke-gattaca_1162861017.jpg"/>
          <p:cNvPicPr/>
          <p:nvPr/>
        </p:nvPicPr>
        <p:blipFill>
          <a:blip r:embed="rId1"/>
          <a:stretch/>
        </p:blipFill>
        <p:spPr>
          <a:xfrm>
            <a:off x="5257800" y="260280"/>
            <a:ext cx="3672000" cy="2448000"/>
          </a:xfrm>
          <a:prstGeom prst="rect">
            <a:avLst/>
          </a:prstGeom>
          <a:ln w="0">
            <a:noFill/>
          </a:ln>
        </p:spPr>
      </p:pic>
      <p:sp>
        <p:nvSpPr>
          <p:cNvPr id="134" name="Rectangle 5"/>
          <p:cNvSpPr/>
          <p:nvPr/>
        </p:nvSpPr>
        <p:spPr>
          <a:xfrm>
            <a:off x="395280" y="333360"/>
            <a:ext cx="4572000" cy="31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3200" spc="-1" strike="noStrike">
                <a:solidFill>
                  <a:srgbClr val="ffffff"/>
                </a:solidFill>
                <a:latin typeface="Kahootz Monster"/>
              </a:rPr>
              <a:t>He’s a big fan of yours…Unfortunately my son is not all that they promised. But then, who knows what he could do?’</a:t>
            </a:r>
            <a:endParaRPr b="0" lang="en-US" sz="32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395280" y="4046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Kahootz Monster"/>
              </a:rPr>
              <a:t>Lasting Message?</a:t>
            </a:r>
            <a:endParaRPr b="0" lang="en-US" sz="7200" spc="-1" strike="noStrike">
              <a:solidFill>
                <a:srgbClr val="ffffff"/>
              </a:solidFill>
              <a:latin typeface="Arial"/>
            </a:endParaRPr>
          </a:p>
        </p:txBody>
      </p:sp>
      <p:sp>
        <p:nvSpPr>
          <p:cNvPr id="136" name="TextBox 4"/>
          <p:cNvSpPr/>
          <p:nvPr/>
        </p:nvSpPr>
        <p:spPr>
          <a:xfrm>
            <a:off x="468360" y="2060640"/>
            <a:ext cx="8207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 What message should we heed about Gattaca’s representation of eugenic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 What does it mean to be huma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 What factors determine our success and happiness in this worl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 When is rebellion justified? When it is ok to rebuke the systems and organisations that govern us?</a:t>
            </a:r>
            <a:endParaRPr b="0" lang="en-US" sz="24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4"/>
          <p:cNvSpPr/>
          <p:nvPr/>
        </p:nvSpPr>
        <p:spPr>
          <a:xfrm>
            <a:off x="539640" y="2349360"/>
            <a:ext cx="79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irector Andrew Niccol said of the fil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 (Andrew Nic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At what point does genetic engineering cross a line? What are your though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Do you think a line is drawn in Gattaca?</a:t>
            </a:r>
            <a:endParaRPr b="0" lang="en-US" sz="1800" spc="-1" strike="noStrike">
              <a:solidFill>
                <a:srgbClr val="ffffff"/>
              </a:solidFill>
              <a:latin typeface="Arial"/>
            </a:endParaRPr>
          </a:p>
        </p:txBody>
      </p:sp>
      <p:pic>
        <p:nvPicPr>
          <p:cNvPr id="108" name="Picture 5" descr="http://upload.wikimedia.org/wikipedia/en/thumb/d/d0/Marin_Civic_Center_interior.jpg/220px-Marin_Civic_Center_interior.jpg"/>
          <p:cNvPicPr/>
          <p:nvPr/>
        </p:nvPicPr>
        <p:blipFill>
          <a:blip r:embed="rId1"/>
          <a:stretch/>
        </p:blipFill>
        <p:spPr>
          <a:xfrm>
            <a:off x="5219640" y="404640"/>
            <a:ext cx="3240000" cy="1825920"/>
          </a:xfrm>
          <a:prstGeom prst="rect">
            <a:avLst/>
          </a:prstGeom>
          <a:ln w="0">
            <a:noFill/>
          </a:ln>
        </p:spPr>
      </p:pic>
      <p:sp>
        <p:nvSpPr>
          <p:cNvPr id="109" name="TextBox 6"/>
          <p:cNvSpPr/>
          <p:nvPr/>
        </p:nvSpPr>
        <p:spPr>
          <a:xfrm>
            <a:off x="468360" y="404640"/>
            <a:ext cx="431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is a world in which the pace of scientific discovery has been left unchecked by moralist and ethical deb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mportantly the film does not condemn science as ev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755640" y="2421000"/>
            <a:ext cx="777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Gattaca reproductive technologies have replaced traditional methods of conception and bir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Gattaca people are conceived through genetic manipulation. Artificial insemination is used to screen embryos for genetic defects and ensure that the best possible gene composition is achiev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Picture 2" descr="http://www.dvdbeaver.com/film2/DVDReviews39/gattaca%20brd/large/lg%20%20%20large%20gattaca%20%20snapshot20080708102915.jpg"/>
          <p:cNvPicPr/>
          <p:nvPr/>
        </p:nvPicPr>
        <p:blipFill>
          <a:blip r:embed="rId1"/>
          <a:stretch/>
        </p:blipFill>
        <p:spPr>
          <a:xfrm>
            <a:off x="4716360" y="333360"/>
            <a:ext cx="4043520" cy="2273400"/>
          </a:xfrm>
          <a:prstGeom prst="rect">
            <a:avLst/>
          </a:prstGeom>
          <a:ln w="0">
            <a:noFill/>
          </a:ln>
        </p:spPr>
      </p:pic>
      <p:sp>
        <p:nvSpPr>
          <p:cNvPr id="112" name="TextBox 6"/>
          <p:cNvSpPr/>
          <p:nvPr/>
        </p:nvSpPr>
        <p:spPr>
          <a:xfrm>
            <a:off x="611280" y="549360"/>
            <a:ext cx="388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Kahootz Monster"/>
              </a:rPr>
              <a:t>‘</a:t>
            </a:r>
            <a:r>
              <a:rPr b="0" lang="en-AU" sz="3200" spc="-1" strike="noStrike">
                <a:solidFill>
                  <a:srgbClr val="ffffff"/>
                </a:solidFill>
                <a:latin typeface="Kahootz Monster"/>
              </a:rPr>
              <a:t>Ten fingers and ten toes, that’s all that matters, Not now.’</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5"/>
          <p:cNvSpPr/>
          <p:nvPr/>
        </p:nvSpPr>
        <p:spPr>
          <a:xfrm>
            <a:off x="684360" y="2205000"/>
            <a:ext cx="784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ose persons born a ‘God-birth’ whose parents left their destinies up to ‘faith’ are classified as ‘inval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though discrimination is prohibited by law, invalids are rendered second class citize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valid Vincent is afforded access to menial jobs and denied the opportunity to rise above his 30.2 year life expectancy predicted at bir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does this classification system evok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other instances throughout history can you cite when discrimination has occurred in ways which subvert individuals’ liber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5" descr="http://www.knowthemovies.com/wp-content/uploads/gattaca-movie-still-5.jpg"/>
          <p:cNvPicPr/>
          <p:nvPr/>
        </p:nvPicPr>
        <p:blipFill>
          <a:blip r:embed="rId1"/>
          <a:stretch/>
        </p:blipFill>
        <p:spPr>
          <a:xfrm>
            <a:off x="4211640" y="476280"/>
            <a:ext cx="4605480" cy="1944720"/>
          </a:xfrm>
          <a:prstGeom prst="rect">
            <a:avLst/>
          </a:prstGeom>
          <a:ln w="0">
            <a:noFill/>
          </a:ln>
        </p:spPr>
      </p:pic>
      <p:sp>
        <p:nvSpPr>
          <p:cNvPr id="115" name="Rectangle 7"/>
          <p:cNvSpPr/>
          <p:nvPr/>
        </p:nvSpPr>
        <p:spPr>
          <a:xfrm>
            <a:off x="250920" y="476280"/>
            <a:ext cx="374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Kahootz Monster"/>
              </a:rPr>
              <a:t>‘</a:t>
            </a:r>
            <a:r>
              <a:rPr b="0" lang="en-AU" sz="3200" spc="-1" strike="noStrike">
                <a:solidFill>
                  <a:srgbClr val="ffffff"/>
                </a:solidFill>
                <a:latin typeface="Kahootz Monster"/>
              </a:rPr>
              <a:t>We now have discrimination down to a science’.</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395280" y="3068640"/>
            <a:ext cx="856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ultimately rejects the genetic determinism which is at the heart of how the society is organi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Gattaca we see that chance and other unknown factors play a role in our development as a child and success as an adul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things ensure Vincent’s su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If it is not Vincent’s genetic build that makes him successful then what does?</a:t>
            </a:r>
            <a:endParaRPr b="0" lang="en-US" sz="1800" spc="-1" strike="noStrike">
              <a:solidFill>
                <a:srgbClr val="ffffff"/>
              </a:solidFill>
              <a:latin typeface="Arial"/>
            </a:endParaRPr>
          </a:p>
        </p:txBody>
      </p:sp>
      <p:pic>
        <p:nvPicPr>
          <p:cNvPr id="117" name="Picture 2" descr="http://3.bp.blogspot.com/_SH77RTXoKK4/TIZngMCWzeI/AAAAAAAADs8/3nFbqOP29Z8/s1600/gattaca.jpg"/>
          <p:cNvPicPr/>
          <p:nvPr/>
        </p:nvPicPr>
        <p:blipFill>
          <a:blip r:embed="rId1"/>
          <a:stretch/>
        </p:blipFill>
        <p:spPr>
          <a:xfrm>
            <a:off x="4933800" y="404640"/>
            <a:ext cx="3780000" cy="2519640"/>
          </a:xfrm>
          <a:prstGeom prst="rect">
            <a:avLst/>
          </a:prstGeom>
          <a:ln w="0">
            <a:noFill/>
          </a:ln>
        </p:spPr>
      </p:pic>
      <p:sp>
        <p:nvSpPr>
          <p:cNvPr id="118" name="Rectangle 5"/>
          <p:cNvSpPr/>
          <p:nvPr/>
        </p:nvSpPr>
        <p:spPr>
          <a:xfrm>
            <a:off x="611280" y="404640"/>
            <a:ext cx="410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There is no gene for the human spirit”</a:t>
            </a:r>
            <a:endParaRPr b="0" lang="en-US" sz="40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826920" y="333360"/>
            <a:ext cx="741708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for the genetically superior, success is easier to attain but by no means guaranteed”.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film shows that genes alone do not guarantee a person’s success in l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ny of the film’s most genetically perfect characters are the least successfu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nsider Anton, Vincent’s brother who is twice beaten in the chicken race and gains employment in a field usually reserved for ‘inval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ugene, the real Jerome Morrow, who has genetically superior genes only manages a silver medal in the Olympic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th these characters lack the drive, determination and courage for success</a:t>
            </a:r>
            <a:endParaRPr b="0" lang="en-US" sz="18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539640" y="2997360"/>
            <a:ext cx="8353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Vincent  refuses to accept the hand dealt to h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Vincent’s resolve, inner strength, fortitude and strength of mind and spirit are what propel him forward and enable him to succeed where others who are genetically superior to him cann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a:t>
            </a:r>
            <a:r>
              <a:rPr b="0" lang="en-AU" sz="1800" spc="-1" strike="noStrike">
                <a:solidFill>
                  <a:srgbClr val="ffffff"/>
                </a:solidFill>
                <a:latin typeface="Arial"/>
              </a:rPr>
              <a:t>Destined’ to be an in-valid but driven to rebel, Vincent’s bravery and determination help in surpass his ‘predetermined’ potential measured at birt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Picture 2" descr="http://cdn.mymovies.ge/backdrops/5e0/4bc90c82017a3c57fe0045e0/gattaca-original.jpg"/>
          <p:cNvPicPr/>
          <p:nvPr/>
        </p:nvPicPr>
        <p:blipFill>
          <a:blip r:embed="rId1"/>
          <a:stretch/>
        </p:blipFill>
        <p:spPr>
          <a:xfrm>
            <a:off x="5076720" y="549360"/>
            <a:ext cx="3851280" cy="2165400"/>
          </a:xfrm>
          <a:prstGeom prst="rect">
            <a:avLst/>
          </a:prstGeom>
          <a:ln w="0">
            <a:noFill/>
          </a:ln>
        </p:spPr>
      </p:pic>
      <p:sp>
        <p:nvSpPr>
          <p:cNvPr id="122" name="Rectangle 5"/>
          <p:cNvSpPr/>
          <p:nvPr/>
        </p:nvSpPr>
        <p:spPr>
          <a:xfrm>
            <a:off x="395280" y="404640"/>
            <a:ext cx="4392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Mine is already 10,000 beats overdue.” </a:t>
            </a:r>
            <a:endParaRPr b="0" lang="en-US" sz="40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395280" y="3284640"/>
            <a:ext cx="856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falsity of predictive genetics is exposed through Vincent’s rise above his destiny. Vincent represents the triumph of human spirit over a supposedly ‘perfect’, genetically engineered worl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shows that genetic discrimination, labelling people forever, is misguided and unjust. Niccol condemns the obsession with genetics as something which blinds people to reali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does Anton’s refusal to share blood tell us about h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happens after this scene in the film and why is it signific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3. In what way are Vincent’s limitations his greatest assets?</a:t>
            </a:r>
            <a:endParaRPr b="0" lang="en-US" sz="1800" spc="-1" strike="noStrike">
              <a:solidFill>
                <a:srgbClr val="ffffff"/>
              </a:solidFill>
              <a:latin typeface="Arial"/>
            </a:endParaRPr>
          </a:p>
        </p:txBody>
      </p:sp>
      <p:sp>
        <p:nvSpPr>
          <p:cNvPr id="124" name="Rectangle 4"/>
          <p:cNvSpPr/>
          <p:nvPr/>
        </p:nvSpPr>
        <p:spPr>
          <a:xfrm>
            <a:off x="395280" y="404640"/>
            <a:ext cx="3529080" cy="28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Kahootz Monster"/>
              </a:rPr>
              <a:t>‘</a:t>
            </a:r>
            <a:r>
              <a:rPr b="0" lang="en-AU" sz="3600" spc="-1" strike="noStrike">
                <a:solidFill>
                  <a:srgbClr val="ffffff"/>
                </a:solidFill>
                <a:latin typeface="Kahootz Monster"/>
              </a:rPr>
              <a:t>This is how I did it. I never saved anything for the swim back.’</a:t>
            </a:r>
            <a:endParaRPr b="0" lang="en-US" sz="3600" spc="-1" strike="noStrike">
              <a:solidFill>
                <a:srgbClr val="ffffff"/>
              </a:solidFill>
              <a:latin typeface="Arial"/>
            </a:endParaRPr>
          </a:p>
        </p:txBody>
      </p:sp>
      <p:pic>
        <p:nvPicPr>
          <p:cNvPr id="125" name="Picture 2" descr="http://3.bp.blogspot.com/_PRJJxuTIeLw/S9nmw0mCOSI/AAAAAAAAAJc/yT70y9RxlEI/s1600/Gattaca+swimming+challenge.jpg"/>
          <p:cNvPicPr/>
          <p:nvPr/>
        </p:nvPicPr>
        <p:blipFill>
          <a:blip r:embed="rId1"/>
          <a:stretch/>
        </p:blipFill>
        <p:spPr>
          <a:xfrm>
            <a:off x="4079880" y="0"/>
            <a:ext cx="5064120" cy="30243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3"/>
          <p:cNvSpPr/>
          <p:nvPr/>
        </p:nvSpPr>
        <p:spPr>
          <a:xfrm>
            <a:off x="431640" y="2060640"/>
            <a:ext cx="8461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addition to heralding the power of the human spirit, Gattaca shows the dangers of totalitarian societies where human rights are subjugated and individuality suppres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totalitarian nature of this society is chilling. Technology has usurped individual rights and freedom. Every citizen’s genetic blueprint is held on a central police database. Random blood or urine tests in the workplace is commonplace. While random police sweeps terrorise peop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is critical of regimes which negate a person’s huma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other regimes can you think of that are totalitari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evidence do we have the Gattaca takes inspiration from these socie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7" name="Picture 2" descr="See full size image">
            <a:hlinkClick r:id="rId1"/>
          </p:cNvPr>
          <p:cNvPicPr/>
          <p:nvPr/>
        </p:nvPicPr>
        <p:blipFill>
          <a:blip r:embed="rId2"/>
          <a:stretch/>
        </p:blipFill>
        <p:spPr>
          <a:xfrm>
            <a:off x="6305400" y="404640"/>
            <a:ext cx="2419560" cy="1440000"/>
          </a:xfrm>
          <a:prstGeom prst="rect">
            <a:avLst/>
          </a:prstGeom>
          <a:ln w="0">
            <a:noFill/>
          </a:ln>
        </p:spPr>
      </p:pic>
      <p:sp>
        <p:nvSpPr>
          <p:cNvPr id="128" name="Rectangle 5"/>
          <p:cNvSpPr/>
          <p:nvPr/>
        </p:nvSpPr>
        <p:spPr>
          <a:xfrm>
            <a:off x="468360" y="476280"/>
            <a:ext cx="46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I belonged to a new underclass”.</a:t>
            </a:r>
            <a:endParaRPr b="0" lang="en-US" sz="40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WHITE, Alice(WHI)</cp:lastModifiedBy>
  <dcterms:modified xsi:type="dcterms:W3CDTF">2015-06-17T00:00:20Z</dcterms:modified>
  <cp:revision>25</cp:revision>
  <dc:subject/>
  <dc:title>Gattaca</dc:title>
</cp:coreProperties>
</file>